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D7BE-EA47-4A32-B620-1FB3B8DAA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D9DE-0AC9-4140-A107-789EFE04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51F9-2A77-450B-9FDB-1FD0674D3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BC2B-6F4D-4F2F-9D3F-D909E7DFD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DF33-B7B8-4FDE-B064-A9A5E154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6CE6-09F5-453F-B85A-CB0B944A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A666-3D0B-423B-A7B9-B0538D8B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B08D-C145-49DF-BD4C-01FCC66E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DFB1-DAFC-4397-9EFC-379909F2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D422-5B5C-4697-804C-29555865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BBB3-25A1-429F-AAD0-81A0E7B4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1643-11CD-47EE-87C8-A0223799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974C-5AD3-4598-8C80-A3EC278907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152280"/>
            <a:ext cx="899172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anguage Po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After that it still took seven years </a:t>
            </a:r>
            <a:r>
              <a:rPr b="1" lang="zh-CN" sz="2400" spc="-1" strike="noStrike">
                <a:solidFill>
                  <a:srgbClr val="fc3000"/>
                </a:solidFill>
                <a:latin typeface="Times New Roman"/>
              </a:rPr>
              <a:t>befor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hey finally got marr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fore….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才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等…就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不多久）就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宁愿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不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.g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t was not long before they got married.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276720"/>
            <a:ext cx="7543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会议还没结束，他就离开了会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3809880"/>
            <a:ext cx="7619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e left before the meeting end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937040"/>
            <a:ext cx="853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We hadn’t wait long before the bus ca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4419720"/>
            <a:ext cx="762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们没等多久，汽车就来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54864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宁愿饿死，也就不行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59436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e will die of hunger before he will di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02:38:34Z</dcterms:created>
  <dc:creator>user</dc:creator>
  <dc:description/>
  <dc:language>en-US</dc:language>
  <cp:lastModifiedBy>user</cp:lastModifiedBy>
  <dcterms:modified xsi:type="dcterms:W3CDTF">2003-09-18T02:44:14Z</dcterms:modified>
  <cp:revision>4</cp:revision>
  <dc:subject/>
  <dc:title>PowerPoint 演示文稿</dc:title>
</cp:coreProperties>
</file>